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6.jpeg" ContentType="image/jpeg"/>
  <Override PartName="/ppt/media/image10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3BF1-E2D5-4E0D-92AC-DF18D685DE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78AE-2506-40BD-9A4F-D0F35CED3A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4CE-180C-4C16-B00E-EC3B1E8F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7AA-E9D5-4226-83EB-B1B70253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D42-0FF1-470A-8D67-B7BA7D34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274-B99F-4C1B-971B-316741E2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6C0-A61F-4427-936F-BDE6E26F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49B4-D1E8-46A4-8D3D-16D304BC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28C-6BD3-4AA2-9C4F-8368725E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249-9693-4415-B5CB-859639CD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21D-F5B2-4DF4-9142-F9BED007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873-2B0B-4DE8-8523-3BC8228F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655-69D2-4C8F-91FC-9333EC03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9EF9-9B42-42F0-AEC8-93FE112D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ffffcc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E38B-B82A-47EF-9A06-5D3847EBBC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Средняя общеобразовательная школа № 2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эмбл"/>
          <p:cNvPicPr/>
          <p:nvPr/>
        </p:nvPicPr>
        <p:blipFill>
          <a:blip r:embed="rId1"/>
          <a:stretch/>
        </p:blipFill>
        <p:spPr>
          <a:xfrm>
            <a:off x="457200" y="228600"/>
            <a:ext cx="838080" cy="83340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1143000" y="1066680"/>
            <a:ext cx="6329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равильные</a:t>
            </a:r>
            <a:endParaRPr b="1" i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многоугольники</a:t>
            </a:r>
            <a:endParaRPr b="1" i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650120" y="5943600"/>
            <a:ext cx="187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Северодвинск</a:t>
            </a:r>
            <a:endParaRPr b="0" i="1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08г.</a:t>
            </a:r>
            <a:endParaRPr b="0" i="1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2" name="Picture 17" descr="0"/>
          <p:cNvPicPr/>
          <p:nvPr/>
        </p:nvPicPr>
        <p:blipFill>
          <a:blip r:embed="rId2"/>
          <a:stretch/>
        </p:blipFill>
        <p:spPr>
          <a:xfrm rot="19528800">
            <a:off x="6410160" y="4276800"/>
            <a:ext cx="121932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3" name="Group 21"/>
          <p:cNvGrpSpPr/>
          <p:nvPr/>
        </p:nvGrpSpPr>
        <p:grpSpPr>
          <a:xfrm>
            <a:off x="291960" y="3983400"/>
            <a:ext cx="4106520" cy="2036520"/>
            <a:chOff x="291960" y="3983400"/>
            <a:chExt cx="4106520" cy="2036520"/>
          </a:xfrm>
        </p:grpSpPr>
        <p:sp>
          <p:nvSpPr>
            <p:cNvPr id="54" name="Rectangle 8"/>
            <p:cNvSpPr/>
            <p:nvPr/>
          </p:nvSpPr>
          <p:spPr>
            <a:xfrm rot="20369400">
              <a:off x="3352680" y="4114440"/>
              <a:ext cx="914400" cy="914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" name="AutoShape 10"/>
            <p:cNvSpPr/>
            <p:nvPr/>
          </p:nvSpPr>
          <p:spPr>
            <a:xfrm rot="1438800">
              <a:off x="1828800" y="426708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" name="AutoShape 11"/>
            <p:cNvSpPr/>
            <p:nvPr/>
          </p:nvSpPr>
          <p:spPr>
            <a:xfrm rot="1321200">
              <a:off x="2742840" y="480024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7" name="AutoShape 18"/>
            <p:cNvSpPr/>
            <p:nvPr/>
          </p:nvSpPr>
          <p:spPr>
            <a:xfrm>
              <a:off x="990720" y="49528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89fc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8" name="AutoShape 19"/>
            <p:cNvSpPr/>
            <p:nvPr/>
          </p:nvSpPr>
          <p:spPr>
            <a:xfrm rot="1759200">
              <a:off x="457200" y="4191120"/>
              <a:ext cx="914400" cy="914400"/>
            </a:xfrm>
            <a:prstGeom prst="octagon">
              <a:avLst>
                <a:gd name="adj" fmla="val 29287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9" name="AutoShape 20"/>
            <p:cNvSpPr/>
            <p:nvPr/>
          </p:nvSpPr>
          <p:spPr>
            <a:xfrm>
              <a:off x="1905120" y="5105520"/>
              <a:ext cx="961920" cy="914400"/>
            </a:xfrm>
            <a:prstGeom prst="pentagon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еление окружности на равные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782640" y="2425680"/>
            <a:ext cx="758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9" name="Picture 4" descr="http://2"/>
          <p:cNvPicPr/>
          <p:nvPr/>
        </p:nvPicPr>
        <p:blipFill>
          <a:blip r:embed="rId1"/>
          <a:stretch/>
        </p:blipFill>
        <p:spPr>
          <a:xfrm>
            <a:off x="838080" y="1828800"/>
            <a:ext cx="7543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Rectangle 15"/>
          <p:cNvSpPr/>
          <p:nvPr/>
        </p:nvSpPr>
        <p:spPr>
          <a:xfrm>
            <a:off x="784440" y="3791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i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еление окружности на равные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3"/>
          <p:cNvPicPr/>
          <p:nvPr/>
        </p:nvPicPr>
        <p:blipFill>
          <a:blip r:embed="rId1"/>
          <a:stretch/>
        </p:blipFill>
        <p:spPr>
          <a:xfrm>
            <a:off x="990720" y="1828800"/>
            <a:ext cx="73152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еление окружности на равные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0"/>
          <p:cNvPicPr/>
          <p:nvPr/>
        </p:nvPicPr>
        <p:blipFill>
          <a:blip r:embed="rId1"/>
          <a:stretch/>
        </p:blipFill>
        <p:spPr>
          <a:xfrm>
            <a:off x="1066680" y="1905120"/>
            <a:ext cx="731520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Работа в па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Построение правильного пятиугольника        с помощью циркуля.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еление окружности на равные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1"/>
          <p:cNvPicPr/>
          <p:nvPr/>
        </p:nvPicPr>
        <p:blipFill>
          <a:blip r:embed="rId1"/>
          <a:stretch/>
        </p:blipFill>
        <p:spPr>
          <a:xfrm>
            <a:off x="990720" y="1828800"/>
            <a:ext cx="754380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Monotype Corsiva"/>
              </a:rPr>
              <a:t>Где применяютс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Monotype Corsiva"/>
              </a:rPr>
              <a:t>правильны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Monotype Corsiva"/>
              </a:rPr>
              <a:t>многоугольник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Лоскутное шит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3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4048200" cy="23623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4" descr=""/>
          <p:cNvPicPr/>
          <p:nvPr/>
        </p:nvPicPr>
        <p:blipFill>
          <a:blip r:embed="rId2"/>
          <a:stretch/>
        </p:blipFill>
        <p:spPr>
          <a:xfrm>
            <a:off x="5029200" y="1295280"/>
            <a:ext cx="3479760" cy="26481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3581640" cy="24192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7" descr=""/>
          <p:cNvPicPr/>
          <p:nvPr/>
        </p:nvPicPr>
        <p:blipFill>
          <a:blip r:embed="rId4"/>
          <a:stretch/>
        </p:blipFill>
        <p:spPr>
          <a:xfrm>
            <a:off x="5638680" y="3657600"/>
            <a:ext cx="2603520" cy="270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4AEC-330B-4710-8599-97015DBF0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Monotype Corsiva"/>
              </a:rPr>
              <a:t>Где применяются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Monotype Corsiva"/>
              </a:rPr>
              <a:t> правильные многоугольники?</a:t>
            </a: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361960" y="1218960"/>
            <a:ext cx="65530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Паркет – покрытие плоскости фигур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без зазоров и  пересечений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3"/>
          <p:cNvGrpSpPr/>
          <p:nvPr/>
        </p:nvGrpSpPr>
        <p:grpSpPr>
          <a:xfrm>
            <a:off x="419400" y="1905120"/>
            <a:ext cx="3037320" cy="3438000"/>
            <a:chOff x="419400" y="1905120"/>
            <a:chExt cx="3037320" cy="3438000"/>
          </a:xfrm>
        </p:grpSpPr>
        <p:grpSp>
          <p:nvGrpSpPr>
            <p:cNvPr id="169" name="Group 27"/>
            <p:cNvGrpSpPr/>
            <p:nvPr/>
          </p:nvGrpSpPr>
          <p:grpSpPr>
            <a:xfrm>
              <a:off x="419400" y="1905120"/>
              <a:ext cx="1894320" cy="2828520"/>
              <a:chOff x="419400" y="1905120"/>
              <a:chExt cx="1894320" cy="2828520"/>
            </a:xfrm>
          </p:grpSpPr>
          <p:grpSp>
            <p:nvGrpSpPr>
              <p:cNvPr id="170" name="Group 11"/>
              <p:cNvGrpSpPr/>
              <p:nvPr/>
            </p:nvGrpSpPr>
            <p:grpSpPr>
              <a:xfrm>
                <a:off x="419400" y="2807280"/>
                <a:ext cx="1894320" cy="1926360"/>
                <a:chOff x="419400" y="2807280"/>
                <a:chExt cx="1894320" cy="1926360"/>
              </a:xfrm>
            </p:grpSpPr>
            <p:sp>
              <p:nvSpPr>
                <p:cNvPr id="171" name="AutoShape 12"/>
                <p:cNvSpPr/>
                <p:nvPr/>
              </p:nvSpPr>
              <p:spPr>
                <a:xfrm rot="14448600">
                  <a:off x="1303560" y="3263040"/>
                  <a:ext cx="719640" cy="68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5f72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72" name="AutoShape 13"/>
                <p:cNvSpPr/>
                <p:nvPr/>
              </p:nvSpPr>
              <p:spPr>
                <a:xfrm rot="3648000">
                  <a:off x="709200" y="3596040"/>
                  <a:ext cx="719640" cy="68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5f72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73" name="AutoShape 14"/>
                <p:cNvSpPr/>
                <p:nvPr/>
              </p:nvSpPr>
              <p:spPr>
                <a:xfrm rot="3648000">
                  <a:off x="1481040" y="3580920"/>
                  <a:ext cx="719640" cy="68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1d60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74" name="AutoShape 15"/>
                <p:cNvSpPr/>
                <p:nvPr/>
              </p:nvSpPr>
              <p:spPr>
                <a:xfrm rot="3648000">
                  <a:off x="1126800" y="2946960"/>
                  <a:ext cx="719640" cy="68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0fa8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75" name="AutoShape 16"/>
                <p:cNvSpPr/>
                <p:nvPr/>
              </p:nvSpPr>
              <p:spPr>
                <a:xfrm rot="14448600">
                  <a:off x="886320" y="3912480"/>
                  <a:ext cx="719640" cy="68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0fa8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76" name="AutoShape 17"/>
                <p:cNvSpPr/>
                <p:nvPr/>
              </p:nvSpPr>
              <p:spPr>
                <a:xfrm rot="14448600">
                  <a:off x="532080" y="3278520"/>
                  <a:ext cx="719640" cy="68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1d60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177" name="Group 4"/>
              <p:cNvGrpSpPr/>
              <p:nvPr/>
            </p:nvGrpSpPr>
            <p:grpSpPr>
              <a:xfrm>
                <a:off x="609480" y="1905120"/>
                <a:ext cx="1580760" cy="1244160"/>
                <a:chOff x="609480" y="1905120"/>
                <a:chExt cx="1580760" cy="1244160"/>
              </a:xfrm>
            </p:grpSpPr>
            <p:sp>
              <p:nvSpPr>
                <p:cNvPr id="178" name="AutoShape 5"/>
                <p:cNvSpPr/>
                <p:nvPr/>
              </p:nvSpPr>
              <p:spPr>
                <a:xfrm rot="10800000">
                  <a:off x="1006200" y="1905120"/>
                  <a:ext cx="786960" cy="622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5f72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79" name="AutoShape 6"/>
                <p:cNvSpPr/>
                <p:nvPr/>
              </p:nvSpPr>
              <p:spPr>
                <a:xfrm>
                  <a:off x="1006200" y="2527200"/>
                  <a:ext cx="786960" cy="622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5f72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80" name="AutoShape 7"/>
                <p:cNvSpPr/>
                <p:nvPr/>
              </p:nvSpPr>
              <p:spPr>
                <a:xfrm>
                  <a:off x="1403280" y="1905120"/>
                  <a:ext cx="786960" cy="622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1d60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81" name="AutoShape 8"/>
                <p:cNvSpPr/>
                <p:nvPr/>
              </p:nvSpPr>
              <p:spPr>
                <a:xfrm>
                  <a:off x="609480" y="1905120"/>
                  <a:ext cx="786960" cy="622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0fa8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82" name="AutoShape 9"/>
                <p:cNvSpPr/>
                <p:nvPr/>
              </p:nvSpPr>
              <p:spPr>
                <a:xfrm rot="10800000">
                  <a:off x="1403280" y="2527200"/>
                  <a:ext cx="786960" cy="622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0fa8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83" name="AutoShape 10"/>
                <p:cNvSpPr/>
                <p:nvPr/>
              </p:nvSpPr>
              <p:spPr>
                <a:xfrm rot="10800000">
                  <a:off x="609480" y="2527200"/>
                  <a:ext cx="786960" cy="622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1d60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184" name="Group 28"/>
            <p:cNvGrpSpPr/>
            <p:nvPr/>
          </p:nvGrpSpPr>
          <p:grpSpPr>
            <a:xfrm>
              <a:off x="1562400" y="2514600"/>
              <a:ext cx="1894320" cy="2828520"/>
              <a:chOff x="1562400" y="2514600"/>
              <a:chExt cx="1894320" cy="2828520"/>
            </a:xfrm>
          </p:grpSpPr>
          <p:grpSp>
            <p:nvGrpSpPr>
              <p:cNvPr id="185" name="Group 29"/>
              <p:cNvGrpSpPr/>
              <p:nvPr/>
            </p:nvGrpSpPr>
            <p:grpSpPr>
              <a:xfrm>
                <a:off x="1562400" y="3416760"/>
                <a:ext cx="1894320" cy="1926360"/>
                <a:chOff x="1562400" y="3416760"/>
                <a:chExt cx="1894320" cy="1926360"/>
              </a:xfrm>
            </p:grpSpPr>
            <p:sp>
              <p:nvSpPr>
                <p:cNvPr id="186" name="AutoShape 30"/>
                <p:cNvSpPr/>
                <p:nvPr/>
              </p:nvSpPr>
              <p:spPr>
                <a:xfrm rot="14448600">
                  <a:off x="2446560" y="3872520"/>
                  <a:ext cx="719640" cy="68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5f72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87" name="AutoShape 31"/>
                <p:cNvSpPr/>
                <p:nvPr/>
              </p:nvSpPr>
              <p:spPr>
                <a:xfrm rot="3648000">
                  <a:off x="1852200" y="4205520"/>
                  <a:ext cx="719640" cy="68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5f72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88" name="AutoShape 32"/>
                <p:cNvSpPr/>
                <p:nvPr/>
              </p:nvSpPr>
              <p:spPr>
                <a:xfrm rot="3648000">
                  <a:off x="2624040" y="4190400"/>
                  <a:ext cx="719640" cy="68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1d60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89" name="AutoShape 33"/>
                <p:cNvSpPr/>
                <p:nvPr/>
              </p:nvSpPr>
              <p:spPr>
                <a:xfrm rot="3648000">
                  <a:off x="2269800" y="3556440"/>
                  <a:ext cx="719640" cy="68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0fa8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90" name="AutoShape 34"/>
                <p:cNvSpPr/>
                <p:nvPr/>
              </p:nvSpPr>
              <p:spPr>
                <a:xfrm rot="14448600">
                  <a:off x="2029320" y="4521960"/>
                  <a:ext cx="719640" cy="68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0fa8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91" name="AutoShape 35"/>
                <p:cNvSpPr/>
                <p:nvPr/>
              </p:nvSpPr>
              <p:spPr>
                <a:xfrm rot="14448600">
                  <a:off x="1675080" y="3888000"/>
                  <a:ext cx="719640" cy="68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1d60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192" name="Group 36"/>
              <p:cNvGrpSpPr/>
              <p:nvPr/>
            </p:nvGrpSpPr>
            <p:grpSpPr>
              <a:xfrm>
                <a:off x="1752480" y="2514600"/>
                <a:ext cx="1580760" cy="1244160"/>
                <a:chOff x="1752480" y="2514600"/>
                <a:chExt cx="1580760" cy="1244160"/>
              </a:xfrm>
            </p:grpSpPr>
            <p:sp>
              <p:nvSpPr>
                <p:cNvPr id="193" name="AutoShape 37"/>
                <p:cNvSpPr/>
                <p:nvPr/>
              </p:nvSpPr>
              <p:spPr>
                <a:xfrm rot="10800000">
                  <a:off x="2149200" y="2514600"/>
                  <a:ext cx="786960" cy="622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5f72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94" name="AutoShape 38"/>
                <p:cNvSpPr/>
                <p:nvPr/>
              </p:nvSpPr>
              <p:spPr>
                <a:xfrm>
                  <a:off x="2149200" y="3136680"/>
                  <a:ext cx="786960" cy="622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5f72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95" name="AutoShape 39"/>
                <p:cNvSpPr/>
                <p:nvPr/>
              </p:nvSpPr>
              <p:spPr>
                <a:xfrm>
                  <a:off x="2546280" y="2514600"/>
                  <a:ext cx="786960" cy="622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1d60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96" name="AutoShape 40"/>
                <p:cNvSpPr/>
                <p:nvPr/>
              </p:nvSpPr>
              <p:spPr>
                <a:xfrm>
                  <a:off x="1752480" y="2514600"/>
                  <a:ext cx="786960" cy="622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0fa8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97" name="AutoShape 41"/>
                <p:cNvSpPr/>
                <p:nvPr/>
              </p:nvSpPr>
              <p:spPr>
                <a:xfrm rot="10800000">
                  <a:off x="2546280" y="3136680"/>
                  <a:ext cx="786960" cy="622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0fa8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98" name="AutoShape 42"/>
                <p:cNvSpPr/>
                <p:nvPr/>
              </p:nvSpPr>
              <p:spPr>
                <a:xfrm rot="10800000">
                  <a:off x="1752480" y="3136680"/>
                  <a:ext cx="786960" cy="622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1d60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</p:grpSp>
      <p:grpSp>
        <p:nvGrpSpPr>
          <p:cNvPr id="199" name="Group 47"/>
          <p:cNvGrpSpPr/>
          <p:nvPr/>
        </p:nvGrpSpPr>
        <p:grpSpPr>
          <a:xfrm>
            <a:off x="5004360" y="1946880"/>
            <a:ext cx="1989720" cy="1827000"/>
            <a:chOff x="5004360" y="1946880"/>
            <a:chExt cx="1989720" cy="1827000"/>
          </a:xfrm>
        </p:grpSpPr>
        <p:sp>
          <p:nvSpPr>
            <p:cNvPr id="200" name="AutoShape 44"/>
            <p:cNvSpPr/>
            <p:nvPr/>
          </p:nvSpPr>
          <p:spPr>
            <a:xfrm rot="21313200">
              <a:off x="5995080" y="2741040"/>
              <a:ext cx="962280" cy="914400"/>
            </a:xfrm>
            <a:prstGeom prst="pentagon">
              <a:avLst/>
            </a:prstGeom>
            <a:solidFill>
              <a:srgbClr val="00cdc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1" name="AutoShape 45"/>
            <p:cNvSpPr/>
            <p:nvPr/>
          </p:nvSpPr>
          <p:spPr>
            <a:xfrm rot="21444600">
              <a:off x="5024520" y="2838240"/>
              <a:ext cx="961920" cy="914400"/>
            </a:xfrm>
            <a:prstGeom prst="pentagon">
              <a:avLst/>
            </a:prstGeom>
            <a:solidFill>
              <a:srgbClr val="00cdc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2" name="AutoShape 46"/>
            <p:cNvSpPr/>
            <p:nvPr/>
          </p:nvSpPr>
          <p:spPr>
            <a:xfrm rot="1978800">
              <a:off x="5480280" y="2134800"/>
              <a:ext cx="961920" cy="914400"/>
            </a:xfrm>
            <a:prstGeom prst="pentagon">
              <a:avLst/>
            </a:prstGeom>
            <a:solidFill>
              <a:srgbClr val="0099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203" name="Group 48"/>
          <p:cNvGrpSpPr/>
          <p:nvPr/>
        </p:nvGrpSpPr>
        <p:grpSpPr>
          <a:xfrm>
            <a:off x="5824080" y="3490920"/>
            <a:ext cx="1953360" cy="2112120"/>
            <a:chOff x="5824080" y="3490920"/>
            <a:chExt cx="1953360" cy="2112120"/>
          </a:xfrm>
        </p:grpSpPr>
        <p:sp>
          <p:nvSpPr>
            <p:cNvPr id="204" name="AutoShape 49"/>
            <p:cNvSpPr/>
            <p:nvPr/>
          </p:nvSpPr>
          <p:spPr>
            <a:xfrm rot="6198600">
              <a:off x="5898240" y="4572360"/>
              <a:ext cx="962280" cy="914400"/>
            </a:xfrm>
            <a:prstGeom prst="pentagon">
              <a:avLst/>
            </a:prstGeom>
            <a:solidFill>
              <a:srgbClr val="0099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5" name="AutoShape 50"/>
            <p:cNvSpPr/>
            <p:nvPr/>
          </p:nvSpPr>
          <p:spPr>
            <a:xfrm rot="6330000">
              <a:off x="6108120" y="3619440"/>
              <a:ext cx="961920" cy="914400"/>
            </a:xfrm>
            <a:prstGeom prst="pentagon">
              <a:avLst/>
            </a:prstGeom>
            <a:solidFill>
              <a:srgbClr val="0099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6" name="AutoShape 51"/>
            <p:cNvSpPr/>
            <p:nvPr/>
          </p:nvSpPr>
          <p:spPr>
            <a:xfrm rot="8464200">
              <a:off x="6634800" y="4271040"/>
              <a:ext cx="961920" cy="914400"/>
            </a:xfrm>
            <a:prstGeom prst="pentagon">
              <a:avLst/>
            </a:prstGeom>
            <a:solidFill>
              <a:srgbClr val="00cdc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207" name="Group 54"/>
          <p:cNvGrpSpPr/>
          <p:nvPr/>
        </p:nvGrpSpPr>
        <p:grpSpPr>
          <a:xfrm>
            <a:off x="4224600" y="3294720"/>
            <a:ext cx="1965960" cy="2120400"/>
            <a:chOff x="4224600" y="3294720"/>
            <a:chExt cx="1965960" cy="2120400"/>
          </a:xfrm>
        </p:grpSpPr>
        <p:sp>
          <p:nvSpPr>
            <p:cNvPr id="208" name="AutoShape 55"/>
            <p:cNvSpPr/>
            <p:nvPr/>
          </p:nvSpPr>
          <p:spPr>
            <a:xfrm rot="4155000">
              <a:off x="4690080" y="4345560"/>
              <a:ext cx="962280" cy="914400"/>
            </a:xfrm>
            <a:prstGeom prst="pentagon">
              <a:avLst/>
            </a:prstGeom>
            <a:solidFill>
              <a:srgbClr val="00cdc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9" name="AutoShape 56"/>
            <p:cNvSpPr/>
            <p:nvPr/>
          </p:nvSpPr>
          <p:spPr>
            <a:xfrm rot="4286400">
              <a:off x="4330080" y="3438720"/>
              <a:ext cx="961920" cy="914400"/>
            </a:xfrm>
            <a:prstGeom prst="pentagon">
              <a:avLst/>
            </a:prstGeom>
            <a:solidFill>
              <a:srgbClr val="00cdc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10" name="AutoShape 57"/>
            <p:cNvSpPr/>
            <p:nvPr/>
          </p:nvSpPr>
          <p:spPr>
            <a:xfrm rot="6420600">
              <a:off x="5131440" y="3684240"/>
              <a:ext cx="961920" cy="914400"/>
            </a:xfrm>
            <a:prstGeom prst="pentagon">
              <a:avLst/>
            </a:prstGeom>
            <a:solidFill>
              <a:srgbClr val="0099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11" name="AutoShape 59"/>
          <p:cNvSpPr/>
          <p:nvPr/>
        </p:nvSpPr>
        <p:spPr>
          <a:xfrm rot="10513200">
            <a:off x="6780960" y="3069720"/>
            <a:ext cx="962280" cy="914400"/>
          </a:xfrm>
          <a:prstGeom prst="pentagon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AutoShape 60"/>
          <p:cNvSpPr/>
          <p:nvPr/>
        </p:nvSpPr>
        <p:spPr>
          <a:xfrm rot="6493800">
            <a:off x="7799040" y="2962080"/>
            <a:ext cx="962280" cy="914400"/>
          </a:xfrm>
          <a:prstGeom prst="pentagon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AutoShape 61"/>
          <p:cNvSpPr/>
          <p:nvPr/>
        </p:nvSpPr>
        <p:spPr>
          <a:xfrm rot="12778200">
            <a:off x="7296120" y="3676680"/>
            <a:ext cx="961920" cy="914400"/>
          </a:xfrm>
          <a:prstGeom prst="pentagon">
            <a:avLst/>
          </a:prstGeom>
          <a:solidFill>
            <a:srgbClr val="00cd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Text Box 63"/>
          <p:cNvSpPr/>
          <p:nvPr/>
        </p:nvSpPr>
        <p:spPr>
          <a:xfrm>
            <a:off x="-46080" y="5562720"/>
            <a:ext cx="781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крыть плоскость без зазоров и пересечений 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можно </a:t>
            </a:r>
            <a:r>
              <a:rPr b="0" i="1" lang="ru-RU" sz="2400" spc="-1" strike="noStrike">
                <a:solidFill>
                  <a:srgbClr val="cc0000"/>
                </a:solidFill>
                <a:latin typeface="Monotype Corsiva"/>
              </a:rPr>
              <a:t>не любыми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правильными многоугольниками.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Как найти величину угл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равильного многоугольн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38480" y="16765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сло   получившихся треугольников рав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-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+      B+     C=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 всех   уг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угольника рав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-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е углы рав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начит, величина одного уг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7"/>
              <p:cNvSpPr txBox="1"/>
              <p:nvPr/>
            </p:nvSpPr>
            <p:spPr>
              <a:xfrm>
                <a:off x="4572000" y="28954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Group 7"/>
          <p:cNvGrpSpPr/>
          <p:nvPr/>
        </p:nvGrpSpPr>
        <p:grpSpPr>
          <a:xfrm>
            <a:off x="533520" y="1828800"/>
            <a:ext cx="3200040" cy="3123720"/>
            <a:chOff x="533520" y="1828800"/>
            <a:chExt cx="3200040" cy="3123720"/>
          </a:xfrm>
        </p:grpSpPr>
        <p:sp>
          <p:nvSpPr>
            <p:cNvPr id="219" name="AutoShape 4"/>
            <p:cNvSpPr/>
            <p:nvPr/>
          </p:nvSpPr>
          <p:spPr>
            <a:xfrm>
              <a:off x="533520" y="1828800"/>
              <a:ext cx="3200040" cy="3123720"/>
            </a:xfrm>
            <a:prstGeom prst="pentag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20" name="Line 5"/>
            <p:cNvSpPr/>
            <p:nvPr/>
          </p:nvSpPr>
          <p:spPr>
            <a:xfrm>
              <a:off x="533520" y="3043440"/>
              <a:ext cx="3200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21" name="Line 6"/>
            <p:cNvSpPr/>
            <p:nvPr/>
          </p:nvSpPr>
          <p:spPr>
            <a:xfrm>
              <a:off x="533520" y="3043440"/>
              <a:ext cx="2594880" cy="190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22" name="Text Box 8"/>
          <p:cNvSpPr/>
          <p:nvPr/>
        </p:nvSpPr>
        <p:spPr>
          <a:xfrm>
            <a:off x="154080" y="2743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839880" y="5029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2965680" y="502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356616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213516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9"/>
              <p:cNvSpPr txBox="1"/>
              <p:nvPr/>
            </p:nvSpPr>
            <p:spPr>
              <a:xfrm>
                <a:off x="4572000" y="2438280"/>
                <a:ext cx="32544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1"/>
              <p:cNvSpPr txBox="1"/>
              <p:nvPr/>
            </p:nvSpPr>
            <p:spPr>
              <a:xfrm>
                <a:off x="5486400" y="28954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2"/>
              <p:cNvSpPr txBox="1"/>
              <p:nvPr/>
            </p:nvSpPr>
            <p:spPr>
              <a:xfrm>
                <a:off x="6248520" y="28954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Line 24"/>
          <p:cNvSpPr/>
          <p:nvPr/>
        </p:nvSpPr>
        <p:spPr>
          <a:xfrm>
            <a:off x="5638680" y="52578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534600" y="5486400"/>
            <a:ext cx="32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вели все диагонали 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з одной вершины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Как найти величину угл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равильного многоугольн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86200" y="159984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 многоугольн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ли точку О и соединили ее со всеми вершинами многоугольника. Получилос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угольников. Сумма углов каждого треугольника 18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Тогда сумма всех углов всех получившихся треугольников равна 18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ычтем сумму углов с вершиной О - 36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 18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36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8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2) - это сумма всех углов многоугольника, все они равны. Величина каждого ра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533520" y="1828800"/>
            <a:ext cx="3200400" cy="3124080"/>
          </a:xfrm>
          <a:prstGeom prst="pentag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5" name="Line 6"/>
          <p:cNvSpPr/>
          <p:nvPr/>
        </p:nvSpPr>
        <p:spPr>
          <a:xfrm flipV="1">
            <a:off x="1752480" y="3043080"/>
            <a:ext cx="1981440" cy="385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1752480" y="3429000"/>
            <a:ext cx="1376640" cy="1528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7" name="Line 8"/>
          <p:cNvSpPr/>
          <p:nvPr/>
        </p:nvSpPr>
        <p:spPr>
          <a:xfrm flipH="1">
            <a:off x="1752120" y="1828800"/>
            <a:ext cx="381240" cy="1600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8" name="Line 9"/>
          <p:cNvSpPr/>
          <p:nvPr/>
        </p:nvSpPr>
        <p:spPr>
          <a:xfrm flipH="1">
            <a:off x="1142640" y="3429000"/>
            <a:ext cx="609480" cy="1523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9" name="Line 10"/>
          <p:cNvSpPr/>
          <p:nvPr/>
        </p:nvSpPr>
        <p:spPr>
          <a:xfrm flipH="1" flipV="1">
            <a:off x="533520" y="3048120"/>
            <a:ext cx="1218960" cy="380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98360" y="270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915840" y="4952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2964240" y="4876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356616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228744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1356120" y="2819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5257800" y="5943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819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ель ур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800080"/>
                </a:solidFill>
                <a:latin typeface="Monotype Corsiva"/>
              </a:rPr>
              <a:t>Ввести понятие правильного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Monotype Corsiva"/>
              </a:rPr>
              <a:t> многоугольника и выявить, 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Monotype Corsiva"/>
              </a:rPr>
              <a:t>где применяются правильные многоугольники.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Monotype Corsiva"/>
              </a:rPr>
              <a:t>- Формирование навыка конструирования и моделирования  на компьюте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j0398145"/>
          <p:cNvPicPr/>
          <p:nvPr/>
        </p:nvPicPr>
        <p:blipFill>
          <a:blip r:embed="rId1"/>
          <a:stretch/>
        </p:blipFill>
        <p:spPr>
          <a:xfrm flipH="1">
            <a:off x="456840" y="457200"/>
            <a:ext cx="2438280" cy="2243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276720" y="380880"/>
            <a:ext cx="538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новозрастной интегрированный урок  математики и информатики                                        в 6 классе Г и в 8 классе В.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4495680" y="1523880"/>
            <a:ext cx="43434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Учитель математики Паршева В.В., </a:t>
            </a:r>
            <a:endParaRPr b="0" i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учитель высшей квалификационной категории</a:t>
            </a:r>
            <a:endParaRPr b="0" i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Учитель информатики Шерстобитова Н.А.,</a:t>
            </a:r>
            <a:endParaRPr b="0" i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учитель второй квалификационной категории</a:t>
            </a:r>
            <a:endParaRPr b="0" i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Как вычислить величину угла </a:t>
            </a:r>
            <a:br>
              <a:rPr sz="3200"/>
            </a:b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правильного многоуг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66"/>
              <p:cNvSpPr txBox="1"/>
              <p:nvPr/>
            </p:nvSpPr>
            <p:spPr>
              <a:xfrm>
                <a:off x="6172200" y="380880"/>
                <a:ext cx="25146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о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п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п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49" name=""/>
          <p:cNvGraphicFramePr/>
          <p:nvPr/>
        </p:nvGraphicFramePr>
        <p:xfrm>
          <a:off x="228600" y="2057400"/>
          <a:ext cx="8763120" cy="2779560"/>
        </p:xfrm>
        <a:graphic>
          <a:graphicData uri="http://schemas.openxmlformats.org/drawingml/2006/table">
            <a:tbl>
              <a:tblPr/>
              <a:tblGrid>
                <a:gridCol w="1392120"/>
                <a:gridCol w="970200"/>
                <a:gridCol w="914400"/>
                <a:gridCol w="1066680"/>
                <a:gridCol w="1227240"/>
                <a:gridCol w="1063440"/>
                <a:gridCol w="1146240"/>
                <a:gridCol w="982800"/>
              </a:tblGrid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рон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ов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чина одного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Text Box 63"/>
          <p:cNvSpPr/>
          <p:nvPr/>
        </p:nvSpPr>
        <p:spPr>
          <a:xfrm>
            <a:off x="284040" y="5181480"/>
            <a:ext cx="8859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Какими правильными многоугольниками можно выложить паркет, если при одной вершине сумма углов многоугольников должна быть равна 360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Monotype Corsiva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?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адание для домашне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Arial"/>
              </a:rPr>
              <a:t>6 клас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Прочитай п.12.3 «Правильные многоугольник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 помощью циркуля постройте правильный треугольник и шестиугольни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вадрат. №1203, 12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полнительно: выясните, какими видами симметрии обладают правильные многоуголь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Arial"/>
              </a:rPr>
              <a:t>8 клас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.105, 109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ывод формулы для вычисления угла правильного многоуголь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ворческие задания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для учащихся </a:t>
            </a:r>
            <a:r>
              <a:rPr b="0" i="1" lang="ru-RU" sz="1600" spc="-1" strike="noStrike">
                <a:solidFill>
                  <a:srgbClr val="6600ff"/>
                </a:solidFill>
                <a:latin typeface="Arial"/>
              </a:rPr>
              <a:t>обоих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классов ( по выбор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ставить мозаику (витраж, орнамент, сюжет, панно, паркет) в виде презентации или в виде апплик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ставить план учебного проекта «Этот удивительный и разнообразный мир многоугольников» ( темы презентаций, буклетов, кроссворд, тес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ыбрать тему реферата с элементами исслед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0" i="1" lang="ru-RU" sz="1600" spc="-1" strike="noStrike">
                <a:solidFill>
                  <a:srgbClr val="cc0000"/>
                </a:solidFill>
                <a:latin typeface="Arial"/>
              </a:rPr>
              <a:t>- Многоугольники вокруг на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0" i="1" lang="ru-RU" sz="1600" spc="-1" strike="noStrike">
                <a:solidFill>
                  <a:srgbClr val="cc0000"/>
                </a:solidFill>
                <a:latin typeface="Arial"/>
              </a:rPr>
              <a:t>- Замечательные свойства правильных многоуголь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0" i="1" lang="ru-RU" sz="1600" spc="-1" strike="noStrike">
                <a:solidFill>
                  <a:srgbClr val="cc0000"/>
                </a:solidFill>
                <a:latin typeface="Arial"/>
              </a:rPr>
              <a:t>- Пентаграмма глазами математ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0" i="1" lang="ru-RU" sz="1600" spc="-1" strike="noStrike">
                <a:solidFill>
                  <a:srgbClr val="cc0000"/>
                </a:solidFill>
                <a:latin typeface="Arial"/>
              </a:rPr>
              <a:t>- Магия пентаграм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0" i="1" lang="ru-RU" sz="1600" spc="-1" strike="noStrike">
                <a:solidFill>
                  <a:srgbClr val="cc0000"/>
                </a:solidFill>
                <a:latin typeface="Arial"/>
              </a:rPr>
              <a:t>- Задача построения правильных многоугольников через призму  истор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0" i="1" lang="ru-RU" sz="1600" spc="-1" strike="noStrike">
                <a:solidFill>
                  <a:srgbClr val="cc0000"/>
                </a:solidFill>
                <a:latin typeface="Arial"/>
              </a:rPr>
              <a:t>- Пентаграмма  - символ созидания или символ разруше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дивидуальные задания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Никулину Ване – оформить результаты своей работы на уроке по поиску материалов о пентаграм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838080" y="848160"/>
            <a:ext cx="7969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Советуем прочитать: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45720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могоров А.Н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кеты из правильных    многоугольников” журнал “Квант” №3 1970г.;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45720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Н. Колмогоров, А.Ф. Семенович, Т.С. Черкасов Геометрия 6-9,  Москва, “Просвещение”, 2003г.;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45720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анасян Л.С., Бутузов В.Ф. и др., Геометрия,7-9, 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., Просвещение,2005г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45720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циклопедический словарь юного математика,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ва, “Педагогика”, 1985г.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Monotype Corsiva"/>
              </a:rPr>
              <a:t>Сколько можно составить паркетов из правильных многоугольников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Конструирование паркетов из правильных многоугольников              на компьютере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и на столах из бумажных правильных многоугольни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4f9fc"/>
            </a:gs>
            <a:gs pos="50000">
              <a:srgbClr val="ffffcc"/>
            </a:gs>
            <a:gs pos="100000">
              <a:srgbClr val="e4f9f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23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правильных многоугольников можно составить 11 паркетов:             3 правильных и 8 полуправиль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численные комбинации исчерпывают все многообразие правильных и полуправильных парк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C336-37A2-412E-B873-0AABE8DE9D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Подводим 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ую цель ставили в начале ур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игли ли этой ц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те работу друг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знания вы передали своему партнеру по уро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узнали от партне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е мнение об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вы хотели бы узнать еще по теме «Многоугольник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91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Monotype Corsiva"/>
              </a:rPr>
              <a:t>Задач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Сформировать у учащихся 6 класса Г  (восстановить в памяти учащихся 8 класса В) определение правильного многоуг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ботать навык построения правильных многоугольников с помощью цирку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  Выявить области применения правильных многоуг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ть на компьютере паркеты (орнаменты, витражи, сюже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анн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заики) из правильных многоуг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 Выдвинуть гипотезу о числе диагоналей в многоугольнике. Ответить на вопрос, почему именно пятиконечная звезда у многих народов считается символом (поиск в Интернет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10080" y="151920"/>
            <a:ext cx="3276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виз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cc0000"/>
                </a:solidFill>
                <a:latin typeface="Times New Roman"/>
              </a:rPr>
              <a:t>Знаю и умею сам –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cc0000"/>
                </a:solidFill>
                <a:latin typeface="Times New Roman"/>
              </a:rPr>
              <a:t>научу другого.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с учебни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6 клас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Математика,6. под редакцией Дорофеева Г.В.,-М.: Просвещение, 2006г.,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. 12.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                               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8 клас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Атанасян Л.С. Геометрия, 7-9, -М., Просвещение, 2001г.,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.105 и 109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Найти ответы на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Какой многоугольник называется правиль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Где находятся все вершины правильного многоуголь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Как построить правильный многоугольник, используя это свойство правильного многоуголь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j0406184"/>
          <p:cNvPicPr/>
          <p:nvPr/>
        </p:nvPicPr>
        <p:blipFill>
          <a:blip r:embed="rId1"/>
          <a:stretch/>
        </p:blipFill>
        <p:spPr>
          <a:xfrm rot="1029000">
            <a:off x="7009920" y="4952520"/>
            <a:ext cx="1517760" cy="1613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пределение.</a:t>
            </a:r>
            <a:r>
              <a:rPr b="1" lang="ru-RU" sz="3200" spc="-1" strike="noStrike">
                <a:solidFill>
                  <a:srgbClr val="6600cc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6600cc"/>
                </a:solidFill>
                <a:latin typeface="Monotype Corsiva"/>
              </a:rPr>
              <a:t>Правильный многоугольник – это многоугольник,   у которого равны все стороны и все уг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1"/>
              <p:cNvSpPr txBox="1"/>
              <p:nvPr/>
            </p:nvSpPr>
            <p:spPr>
              <a:xfrm>
                <a:off x="1295280" y="3124080"/>
                <a:ext cx="9907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п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о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3"/>
              <p:cNvSpPr txBox="1"/>
              <p:nvPr/>
            </p:nvSpPr>
            <p:spPr>
              <a:xfrm>
                <a:off x="6635880" y="2981160"/>
                <a:ext cx="12128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п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</m:e>
                          <m:sup>
                            <m:r>
                              <m:t xml:space="preserve">о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5"/>
              <p:cNvSpPr txBox="1"/>
              <p:nvPr/>
            </p:nvSpPr>
            <p:spPr>
              <a:xfrm>
                <a:off x="3886200" y="2971800"/>
                <a:ext cx="1143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п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о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Rectangle 4"/>
          <p:cNvSpPr/>
          <p:nvPr/>
        </p:nvSpPr>
        <p:spPr>
          <a:xfrm>
            <a:off x="3962520" y="198108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295280" y="20574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3962520" y="41148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45f7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1219320" y="41148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f335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6553080" y="1905120"/>
            <a:ext cx="962280" cy="914400"/>
          </a:xfrm>
          <a:prstGeom prst="pentag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219320" y="320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7"/>
              <p:cNvSpPr txBox="1"/>
              <p:nvPr/>
            </p:nvSpPr>
            <p:spPr>
              <a:xfrm>
                <a:off x="1219320" y="5181480"/>
                <a:ext cx="1218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п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e>
                          <m:sup>
                            <m:r>
                              <m:t xml:space="preserve">о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9"/>
              <p:cNvSpPr txBox="1"/>
              <p:nvPr/>
            </p:nvSpPr>
            <p:spPr>
              <a:xfrm>
                <a:off x="3886200" y="5181480"/>
                <a:ext cx="1219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п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о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20"/>
              <p:cNvSpPr txBox="1"/>
              <p:nvPr/>
            </p:nvSpPr>
            <p:spPr>
              <a:xfrm>
                <a:off x="6172200" y="4191120"/>
                <a:ext cx="54936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п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21"/>
          <p:cNvSpPr/>
          <p:nvPr/>
        </p:nvSpPr>
        <p:spPr>
          <a:xfrm>
            <a:off x="6554520" y="411948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число сторон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6707520" y="48769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личина угла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войство правильного шестиуг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14800" cy="45259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снова пчелиных сот –правильные шестиуголь- 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это не случай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тематики доказали, что такая конструкция очень экономична и проч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челы «дошли» до этого «своим умом»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2"/>
          <p:cNvGrpSpPr/>
          <p:nvPr/>
        </p:nvGrpSpPr>
        <p:grpSpPr>
          <a:xfrm>
            <a:off x="5638320" y="1295280"/>
            <a:ext cx="2124360" cy="1828800"/>
            <a:chOff x="5638320" y="1295280"/>
            <a:chExt cx="2124360" cy="1828800"/>
          </a:xfrm>
        </p:grpSpPr>
        <p:sp>
          <p:nvSpPr>
            <p:cNvPr id="88" name="AutoShape 6"/>
            <p:cNvSpPr/>
            <p:nvPr/>
          </p:nvSpPr>
          <p:spPr>
            <a:xfrm rot="10800000">
              <a:off x="6171480" y="129528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45f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9" name="AutoShape 7"/>
            <p:cNvSpPr/>
            <p:nvPr/>
          </p:nvSpPr>
          <p:spPr>
            <a:xfrm>
              <a:off x="6171840" y="220968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45f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0" name="AutoShape 8"/>
            <p:cNvSpPr/>
            <p:nvPr/>
          </p:nvSpPr>
          <p:spPr>
            <a:xfrm>
              <a:off x="6705360" y="129528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21d6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1" name="AutoShape 9"/>
            <p:cNvSpPr/>
            <p:nvPr/>
          </p:nvSpPr>
          <p:spPr>
            <a:xfrm>
              <a:off x="5638680" y="129528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90fa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2" name="AutoShape 10"/>
            <p:cNvSpPr/>
            <p:nvPr/>
          </p:nvSpPr>
          <p:spPr>
            <a:xfrm rot="10800000">
              <a:off x="6705000" y="220968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90fa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3" name="AutoShape 11"/>
            <p:cNvSpPr/>
            <p:nvPr/>
          </p:nvSpPr>
          <p:spPr>
            <a:xfrm rot="10800000">
              <a:off x="5638320" y="220968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21d6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94" name="Text Box 13"/>
          <p:cNvSpPr/>
          <p:nvPr/>
        </p:nvSpPr>
        <p:spPr>
          <a:xfrm>
            <a:off x="4876920" y="3352680"/>
            <a:ext cx="4114800" cy="9169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авильный шестиугольник состоит из шести правильных треугольников.</a:t>
            </a:r>
            <a:endParaRPr b="0" i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Это интересный и важный факт.</a:t>
            </a:r>
            <a:endParaRPr b="0" i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5" name="Picture 15" descr="0"/>
          <p:cNvPicPr/>
          <p:nvPr/>
        </p:nvPicPr>
        <p:blipFill>
          <a:blip r:embed="rId1"/>
          <a:stretch/>
        </p:blipFill>
        <p:spPr>
          <a:xfrm>
            <a:off x="6095880" y="4495680"/>
            <a:ext cx="1752840" cy="17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ажное свойство правильных многоуг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228600" y="3200400"/>
            <a:ext cx="4267080" cy="1191240"/>
          </a:xfrm>
          <a:prstGeom prst="rect">
            <a:avLst/>
          </a:prstGeom>
          <a:solidFill>
            <a:srgbClr val="cff4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Все вершины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правильного многоугольника  лежат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на одной окружности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4495680" y="32767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то  свойство  можно  использовать  для построения правильного многоугольника.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609480" y="4572000"/>
            <a:ext cx="8021880" cy="1984320"/>
          </a:xfrm>
          <a:prstGeom prst="rect">
            <a:avLst/>
          </a:prstGeom>
          <a:solidFill>
            <a:srgbClr val="fe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Домашнее задание  для 6-го класса: 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читать п.12.3 «Правильные многоугольники».</a:t>
            </a:r>
            <a:endParaRPr b="0" i="1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 помощью циркуля построить правильные треугольник,</a:t>
            </a:r>
            <a:endParaRPr b="0" i="1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вадрат, шестиугольник. №1203, 1204.</a:t>
            </a:r>
            <a:endParaRPr b="0" i="1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Times New Roman"/>
              </a:rPr>
              <a:t>Дополнительно: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 выясните, какими видами симметрии обладают правильные многоугольники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00" name="Group 41"/>
          <p:cNvGrpSpPr/>
          <p:nvPr/>
        </p:nvGrpSpPr>
        <p:grpSpPr>
          <a:xfrm>
            <a:off x="533520" y="1600200"/>
            <a:ext cx="8076600" cy="1447920"/>
            <a:chOff x="533520" y="1600200"/>
            <a:chExt cx="8076600" cy="1447920"/>
          </a:xfrm>
        </p:grpSpPr>
        <p:grpSp>
          <p:nvGrpSpPr>
            <p:cNvPr id="101" name="Group 18"/>
            <p:cNvGrpSpPr/>
            <p:nvPr/>
          </p:nvGrpSpPr>
          <p:grpSpPr>
            <a:xfrm>
              <a:off x="3809880" y="1676520"/>
              <a:ext cx="1295280" cy="1371240"/>
              <a:chOff x="3809880" y="1676520"/>
              <a:chExt cx="1295280" cy="1371240"/>
            </a:xfrm>
          </p:grpSpPr>
          <p:sp>
            <p:nvSpPr>
              <p:cNvPr id="102" name="AutoShape 7"/>
              <p:cNvSpPr/>
              <p:nvPr/>
            </p:nvSpPr>
            <p:spPr>
              <a:xfrm>
                <a:off x="3809880" y="1676520"/>
                <a:ext cx="1295280" cy="1188720"/>
              </a:xfrm>
              <a:prstGeom prst="pentagon">
                <a:avLst/>
              </a:pr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3" name="Oval 9"/>
              <p:cNvSpPr/>
              <p:nvPr/>
            </p:nvSpPr>
            <p:spPr>
              <a:xfrm>
                <a:off x="3809880" y="1676520"/>
                <a:ext cx="1295280" cy="13712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04" name="Group 20"/>
            <p:cNvGrpSpPr/>
            <p:nvPr/>
          </p:nvGrpSpPr>
          <p:grpSpPr>
            <a:xfrm>
              <a:off x="7238880" y="1600200"/>
              <a:ext cx="1371240" cy="1371240"/>
              <a:chOff x="7238880" y="1600200"/>
              <a:chExt cx="1371240" cy="1371240"/>
            </a:xfrm>
          </p:grpSpPr>
          <p:sp>
            <p:nvSpPr>
              <p:cNvPr id="105" name="AutoShape 6"/>
              <p:cNvSpPr/>
              <p:nvPr/>
            </p:nvSpPr>
            <p:spPr>
              <a:xfrm>
                <a:off x="7324200" y="1680480"/>
                <a:ext cx="1200600" cy="1210320"/>
              </a:xfrm>
              <a:prstGeom prst="octagon">
                <a:avLst>
                  <a:gd name="adj" fmla="val 2928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6" name="Oval 11"/>
              <p:cNvSpPr/>
              <p:nvPr/>
            </p:nvSpPr>
            <p:spPr>
              <a:xfrm>
                <a:off x="7238880" y="1600200"/>
                <a:ext cx="1371240" cy="1371240"/>
              </a:xfrm>
              <a:prstGeom prst="ellipse">
                <a:avLst/>
              </a:prstGeom>
              <a:noFill/>
              <a:ln w="2844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07" name="Group 17"/>
            <p:cNvGrpSpPr/>
            <p:nvPr/>
          </p:nvGrpSpPr>
          <p:grpSpPr>
            <a:xfrm>
              <a:off x="2209680" y="1676520"/>
              <a:ext cx="1295280" cy="1371600"/>
              <a:chOff x="2209680" y="1676520"/>
              <a:chExt cx="1295280" cy="1371600"/>
            </a:xfrm>
          </p:grpSpPr>
          <p:sp>
            <p:nvSpPr>
              <p:cNvPr id="108" name="Rectangle 4"/>
              <p:cNvSpPr/>
              <p:nvPr/>
            </p:nvSpPr>
            <p:spPr>
              <a:xfrm>
                <a:off x="2361960" y="1905120"/>
                <a:ext cx="990720" cy="914400"/>
              </a:xfrm>
              <a:prstGeom prst="rect">
                <a:avLst/>
              </a:prstGeom>
              <a:noFill/>
              <a:ln w="38160">
                <a:solidFill>
                  <a:srgbClr val="21d6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9" name="Oval 12"/>
              <p:cNvSpPr/>
              <p:nvPr/>
            </p:nvSpPr>
            <p:spPr>
              <a:xfrm>
                <a:off x="2209680" y="1676520"/>
                <a:ext cx="1295280" cy="1371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10" name="Group 16"/>
            <p:cNvGrpSpPr/>
            <p:nvPr/>
          </p:nvGrpSpPr>
          <p:grpSpPr>
            <a:xfrm>
              <a:off x="533520" y="1676520"/>
              <a:ext cx="1218960" cy="1294920"/>
              <a:chOff x="533520" y="1676520"/>
              <a:chExt cx="1218960" cy="1294920"/>
            </a:xfrm>
          </p:grpSpPr>
          <p:sp>
            <p:nvSpPr>
              <p:cNvPr id="111" name="AutoShape 5"/>
              <p:cNvSpPr/>
              <p:nvPr/>
            </p:nvSpPr>
            <p:spPr>
              <a:xfrm>
                <a:off x="609480" y="1676520"/>
                <a:ext cx="1057320" cy="9712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2" name="Oval 13"/>
              <p:cNvSpPr/>
              <p:nvPr/>
            </p:nvSpPr>
            <p:spPr>
              <a:xfrm>
                <a:off x="533520" y="1676520"/>
                <a:ext cx="1218960" cy="1294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13" name="Group 19"/>
            <p:cNvGrpSpPr/>
            <p:nvPr/>
          </p:nvGrpSpPr>
          <p:grpSpPr>
            <a:xfrm>
              <a:off x="5486400" y="1676520"/>
              <a:ext cx="1371240" cy="1371240"/>
              <a:chOff x="5486400" y="1676520"/>
              <a:chExt cx="1371240" cy="1371240"/>
            </a:xfrm>
          </p:grpSpPr>
          <p:sp>
            <p:nvSpPr>
              <p:cNvPr id="114" name="AutoShape 8"/>
              <p:cNvSpPr/>
              <p:nvPr/>
            </p:nvSpPr>
            <p:spPr>
              <a:xfrm>
                <a:off x="5486400" y="1774080"/>
                <a:ext cx="1359000" cy="1175400"/>
              </a:xfrm>
              <a:prstGeom prst="hexagon">
                <a:avLst>
                  <a:gd name="adj" fmla="val 28905"/>
                  <a:gd name="vf" fmla="val 115470"/>
                </a:avLst>
              </a:pr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5" name="Oval 15"/>
              <p:cNvSpPr/>
              <p:nvPr/>
            </p:nvSpPr>
            <p:spPr>
              <a:xfrm>
                <a:off x="5486400" y="1676520"/>
                <a:ext cx="1371240" cy="13712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116" name="Line 24"/>
            <p:cNvSpPr/>
            <p:nvPr/>
          </p:nvSpPr>
          <p:spPr>
            <a:xfrm>
              <a:off x="1143000" y="1676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7" name="Line 25"/>
            <p:cNvSpPr/>
            <p:nvPr/>
          </p:nvSpPr>
          <p:spPr>
            <a:xfrm flipH="1" flipV="1">
              <a:off x="1143000" y="236232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8" name="Line 26"/>
            <p:cNvSpPr/>
            <p:nvPr/>
          </p:nvSpPr>
          <p:spPr>
            <a:xfrm flipH="1">
              <a:off x="609480" y="236232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9" name="Line 27"/>
            <p:cNvSpPr/>
            <p:nvPr/>
          </p:nvSpPr>
          <p:spPr>
            <a:xfrm>
              <a:off x="2362320" y="1905120"/>
              <a:ext cx="9903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0" name="Line 28"/>
            <p:cNvSpPr/>
            <p:nvPr/>
          </p:nvSpPr>
          <p:spPr>
            <a:xfrm flipH="1">
              <a:off x="2361960" y="1905120"/>
              <a:ext cx="9903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1" name="Line 29"/>
            <p:cNvSpPr/>
            <p:nvPr/>
          </p:nvSpPr>
          <p:spPr>
            <a:xfrm>
              <a:off x="4419720" y="1676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2" name="Line 30"/>
            <p:cNvSpPr/>
            <p:nvPr/>
          </p:nvSpPr>
          <p:spPr>
            <a:xfrm flipH="1" flipV="1">
              <a:off x="4419720" y="236196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3" name="Line 31"/>
            <p:cNvSpPr/>
            <p:nvPr/>
          </p:nvSpPr>
          <p:spPr>
            <a:xfrm flipH="1">
              <a:off x="4038120" y="2362320"/>
              <a:ext cx="3812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4" name="Line 32"/>
            <p:cNvSpPr/>
            <p:nvPr/>
          </p:nvSpPr>
          <p:spPr>
            <a:xfrm>
              <a:off x="3809880" y="2133720"/>
              <a:ext cx="609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5" name="Line 33"/>
            <p:cNvSpPr/>
            <p:nvPr/>
          </p:nvSpPr>
          <p:spPr>
            <a:xfrm flipV="1">
              <a:off x="4419720" y="213336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6" name="Line 34"/>
            <p:cNvSpPr/>
            <p:nvPr/>
          </p:nvSpPr>
          <p:spPr>
            <a:xfrm>
              <a:off x="5791320" y="175248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7" name="Line 35"/>
            <p:cNvSpPr/>
            <p:nvPr/>
          </p:nvSpPr>
          <p:spPr>
            <a:xfrm flipH="1">
              <a:off x="5790960" y="175248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8" name="Line 36"/>
            <p:cNvSpPr/>
            <p:nvPr/>
          </p:nvSpPr>
          <p:spPr>
            <a:xfrm>
              <a:off x="5486400" y="23623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9" name="Line 37"/>
            <p:cNvSpPr/>
            <p:nvPr/>
          </p:nvSpPr>
          <p:spPr>
            <a:xfrm>
              <a:off x="7696080" y="1676520"/>
              <a:ext cx="4572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30" name="Line 38"/>
            <p:cNvSpPr/>
            <p:nvPr/>
          </p:nvSpPr>
          <p:spPr>
            <a:xfrm flipH="1">
              <a:off x="7696080" y="1676520"/>
              <a:ext cx="4572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31" name="Line 39"/>
            <p:cNvSpPr/>
            <p:nvPr/>
          </p:nvSpPr>
          <p:spPr>
            <a:xfrm>
              <a:off x="7315200" y="205740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32" name="Line 40"/>
            <p:cNvSpPr/>
            <p:nvPr/>
          </p:nvSpPr>
          <p:spPr>
            <a:xfrm flipH="1">
              <a:off x="7314840" y="205740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C899-6261-4060-80B0-78EB44049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4" name="Picture 4" descr="0"/>
          <p:cNvPicPr/>
          <p:nvPr/>
        </p:nvPicPr>
        <p:blipFill>
          <a:blip r:embed="rId1"/>
          <a:stretch/>
        </p:blipFill>
        <p:spPr>
          <a:xfrm>
            <a:off x="1828800" y="533520"/>
            <a:ext cx="129528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Text Box 6"/>
          <p:cNvSpPr/>
          <p:nvPr/>
        </p:nvSpPr>
        <p:spPr>
          <a:xfrm>
            <a:off x="762120" y="2362320"/>
            <a:ext cx="7772400" cy="393336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ще в глубокой древности была поставлена 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ктическая задача построения правильного 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угольника с помощью циркуля и линейки. 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е этой задачи можно найти в трудах 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евнегреческих ученых Архимеда, Евклида, 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фагора, математик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Y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ов 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ла Гаусса, Пьера Ферма, Леонарда Эйлера.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36" name="Group 18"/>
          <p:cNvGrpSpPr/>
          <p:nvPr/>
        </p:nvGrpSpPr>
        <p:grpSpPr>
          <a:xfrm>
            <a:off x="6019920" y="533520"/>
            <a:ext cx="2666880" cy="1523880"/>
            <a:chOff x="6019920" y="533520"/>
            <a:chExt cx="2666880" cy="1523880"/>
          </a:xfrm>
        </p:grpSpPr>
        <p:grpSp>
          <p:nvGrpSpPr>
            <p:cNvPr id="137" name="Group 11"/>
            <p:cNvGrpSpPr/>
            <p:nvPr/>
          </p:nvGrpSpPr>
          <p:grpSpPr>
            <a:xfrm>
              <a:off x="7391520" y="533520"/>
              <a:ext cx="1295280" cy="1523880"/>
              <a:chOff x="7391520" y="533520"/>
              <a:chExt cx="1295280" cy="1523880"/>
            </a:xfrm>
          </p:grpSpPr>
          <p:sp>
            <p:nvSpPr>
              <p:cNvPr id="138" name="Rectangle 9"/>
              <p:cNvSpPr/>
              <p:nvPr/>
            </p:nvSpPr>
            <p:spPr>
              <a:xfrm>
                <a:off x="7391520" y="533520"/>
                <a:ext cx="1295280" cy="152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pic>
            <p:nvPicPr>
              <p:cNvPr id="139" name="Picture 10" descr="euler1"/>
              <p:cNvPicPr/>
              <p:nvPr/>
            </p:nvPicPr>
            <p:blipFill>
              <a:blip r:embed="rId2"/>
              <a:stretch/>
            </p:blipFill>
            <p:spPr>
              <a:xfrm>
                <a:off x="7453080" y="599400"/>
                <a:ext cx="1140840" cy="1391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0" name="Rectangle 14"/>
            <p:cNvSpPr/>
            <p:nvPr/>
          </p:nvSpPr>
          <p:spPr>
            <a:xfrm>
              <a:off x="6019920" y="533520"/>
              <a:ext cx="121896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pic>
          <p:nvPicPr>
            <p:cNvPr id="141" name="Picture 15" descr="250740081"/>
            <p:cNvPicPr/>
            <p:nvPr/>
          </p:nvPicPr>
          <p:blipFill>
            <a:blip r:embed="rId3"/>
            <a:stretch/>
          </p:blipFill>
          <p:spPr>
            <a:xfrm>
              <a:off x="6095880" y="609480"/>
              <a:ext cx="1035000" cy="137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Picture 16" descr="Гаусс"/>
          <p:cNvPicPr/>
          <p:nvPr/>
        </p:nvPicPr>
        <p:blipFill>
          <a:blip r:embed="rId4"/>
          <a:srcRect l="0" t="0" r="36785" b="0"/>
          <a:stretch/>
        </p:blipFill>
        <p:spPr>
          <a:xfrm>
            <a:off x="4648320" y="533520"/>
            <a:ext cx="1218960" cy="1523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Евклид"/>
          <p:cNvPicPr/>
          <p:nvPr/>
        </p:nvPicPr>
        <p:blipFill>
          <a:blip r:embed="rId5"/>
          <a:stretch/>
        </p:blipFill>
        <p:spPr>
          <a:xfrm>
            <a:off x="3276720" y="533520"/>
            <a:ext cx="12348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15"/>
          <p:cNvGrpSpPr/>
          <p:nvPr/>
        </p:nvGrpSpPr>
        <p:grpSpPr>
          <a:xfrm>
            <a:off x="457200" y="533520"/>
            <a:ext cx="1228680" cy="1523880"/>
            <a:chOff x="457200" y="533520"/>
            <a:chExt cx="1228680" cy="1523880"/>
          </a:xfrm>
        </p:grpSpPr>
        <p:pic>
          <p:nvPicPr>
            <p:cNvPr id="145" name="Picture 7" descr=""/>
            <p:cNvPicPr/>
            <p:nvPr/>
          </p:nvPicPr>
          <p:blipFill>
            <a:blip r:embed="rId6"/>
            <a:stretch/>
          </p:blipFill>
          <p:spPr>
            <a:xfrm>
              <a:off x="457200" y="533520"/>
              <a:ext cx="12286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4"/>
            <p:cNvSpPr/>
            <p:nvPr/>
          </p:nvSpPr>
          <p:spPr>
            <a:xfrm>
              <a:off x="457200" y="1752480"/>
              <a:ext cx="12193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Пифагор</a:t>
              </a:r>
              <a:endParaRPr b="0" i="1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2009-01-28T12:18:34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